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D1CDE-9B50-468D-8D8B-D4BBEBAE5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BB19F-6A5D-44B7-A6C0-D12C95E59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F878A-613B-4644-93F8-8A55DE914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40D55-976B-479D-87E0-673473706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4420E-2B5F-430F-A676-DCA24C041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6FBFE-55F4-4374-90F6-A35E38360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1B9D9-A4F5-48EF-B04F-EB2AE9E84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4D24F-A44F-4810-A3C7-303354DDB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5CC79-7AC3-4115-AE91-8E98443BD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BDE53-F619-4ABE-98D3-24C564C43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7D952-3F66-4704-B875-C16E3DD90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8F73-1959-40FB-AE2F-70BCF9621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7289F-9ECA-4A7A-9B61-2AACC9B01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7746C-681F-4921-8163-A32A11457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7903D-1DCC-45F0-93DC-505F6411C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A5C0E-578D-4A5B-BE41-A1B785C76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867D0-A9CF-4BB5-8A62-04BC96B0D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671D6-63DE-4AFF-BB3F-4F587A26B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CCE18-8D5E-4899-8F42-E4298121B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23272-2029-4847-9678-5616C5851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A2002-170C-4176-9025-5F67D158F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25B9E-0F52-42FF-A490-6065B8441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1D9F0-8318-4B76-80D9-2621F22B6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6B14E-82D0-45A0-AEAA-C0997A3C8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55C7-E12D-41C1-852F-289EE0137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83AD-F87D-4094-A5EF-9EDF71EDE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French%202%20Sing%20along%204.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Ojala%20que%20llueva%20cafe.flv"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rategies </a:t>
            </a:r>
            <a:br>
              <a:rPr sz="4400"/>
            </a:br>
            <a:r>
              <a:rPr b="0" lang="en-US" sz="4400" spc="-1" strike="noStrike">
                <a:solidFill>
                  <a:srgbClr val="221304"/>
                </a:solidFill>
                <a:latin typeface="Times New Roman"/>
              </a:rPr>
              <a:t>for </a:t>
            </a:r>
            <a:br>
              <a:rPr sz="4400"/>
            </a:br>
            <a:r>
              <a:rPr b="0" lang="en-US" sz="4400" spc="-1" strike="noStrike">
                <a:solidFill>
                  <a:srgbClr val="221304"/>
                </a:solidFill>
                <a:latin typeface="Times New Roman"/>
              </a:rPr>
              <a:t>Listening &amp; Speaking</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 Project</a:t>
            </a:r>
            <a:br>
              <a:rPr sz="3200"/>
            </a:b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lyn Bejara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flectio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 have not had the time to do this activity.  I plan to do it next week.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 think it will be effective and I hope it will help some of the students better understand the use of ‘ojalá qu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peaking Activity</a:t>
            </a: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Context: Language, Level, Unit Them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Spanish 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Describing time periods, talking about health and illness, and giving advice.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What stage on the LLC are your student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Most students are usually in Stage 2 of the LLC with lots of lapses and a few can sustain it for longer periods of time.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Functional Objectiv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Answering questions that describe time perio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scription of activity</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How did you prepare stude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udents were asked to share how long ago they completed the various activities: and how long they have been doing various activities.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How did you guide th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y were then given a list of questions to use in a cootie catc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How did you assess th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listened to students ask and answer the questions.</a:t>
            </a:r>
            <a:endParaRPr b="0" lang="en-US" sz="2400" spc="-1" strike="noStrike">
              <a:solidFill>
                <a:srgbClr val="000000"/>
              </a:solidFill>
              <a:latin typeface="Times New Roman"/>
            </a:endParaRPr>
          </a:p>
        </p:txBody>
      </p:sp>
      <p:sp>
        <p:nvSpPr>
          <p:cNvPr id="116" name=""/>
          <p:cNvSpPr/>
          <p:nvPr/>
        </p:nvSpPr>
        <p:spPr>
          <a:xfrm>
            <a:off x="7070760" y="606096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flection</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tudents seemed to enjoy the activity because they were given the okay to travel about the room.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me of the questions were a little difficult for some of the students, but most students were able to ask and answer the questio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n I do this again I will spend a little more time having the students develop their own questions instead of giving them the questions.</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stening Activity #1</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3200" spc="-1" strike="noStrike">
                <a:solidFill>
                  <a:srgbClr val="000000"/>
                </a:solidFill>
                <a:latin typeface="Times New Roman"/>
              </a:rPr>
              <a:t>Context: Language, Level, Unit The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French 2</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People and Entertainment Activiti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3200" spc="-1" strike="noStrike">
                <a:solidFill>
                  <a:srgbClr val="000000"/>
                </a:solidFill>
                <a:latin typeface="Times New Roman"/>
              </a:rPr>
              <a:t>What stage on the LLC are your student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My students are in Stage 1 of the LLC with one or two peaking into Stage 2 occasionall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3200" spc="-1" strike="noStrike">
                <a:solidFill>
                  <a:srgbClr val="000000"/>
                </a:solidFill>
                <a:latin typeface="Times New Roman"/>
              </a:rPr>
              <a:t>Functional Objectiv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Making reque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scription of activity</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How did you prepare stude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had been working vocabulary about entertainment activities and extending and accepting invitations.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How did you guide th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ere given a worksheet for a cloze exercise.  They listened to the song once and checked their answers with their partners</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How did you assess th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sang the song with the filled in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Arial"/>
              </a:rPr>
              <a:t>  </a:t>
            </a:r>
            <a:r>
              <a:rPr b="0" lang="en-US" sz="3600" spc="-1" strike="noStrike">
                <a:solidFill>
                  <a:srgbClr val="221304"/>
                </a:solidFill>
                <a:latin typeface="Arial"/>
                <a:ea typeface="Arial"/>
              </a:rPr>
              <a:t>Technology beyond the textbook</a:t>
            </a:r>
            <a:endParaRPr b="0" lang="en-US" sz="36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ong is from the McDougal Littell’s Discovering French Nouveau Blanc 2</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 Along - Grammar &amp; Vocabulary Songs</a:t>
            </a:r>
            <a:endParaRPr b="0" lang="en-US" sz="2400" spc="-1" strike="noStrike">
              <a:solidFill>
                <a:srgbClr val="000000"/>
              </a:solidFill>
              <a:latin typeface="Times New Roman"/>
            </a:endParaRPr>
          </a:p>
        </p:txBody>
      </p:sp>
      <p:sp>
        <p:nvSpPr>
          <p:cNvPr id="98" name="">
            <a:hlinkClick r:id="rId1"/>
          </p:cNvPr>
          <p:cNvSpPr/>
          <p:nvPr/>
        </p:nvSpPr>
        <p:spPr>
          <a:xfrm>
            <a:off x="5216760" y="5943600"/>
            <a:ext cx="246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Century Gothic"/>
              </a:rPr>
              <a:t>Ne quitte pas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flection</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son I used this particular song was to practice some of the vocabulary and word phrases students had been using and to introduce the concept of object pronou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tivity was fairly easy for most studen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ood majority of the students like singing, however this song was not as popular as one I used earlier in the year from the same text.  It didn’t have as catchy of a tu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stening Activity #2</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Context: Language, Level, Unit Them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Spanish 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Talking about travel plans, persuading others, and describing rooms, furniture, and applian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What stage on the LLC are your student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Most students are usually in Stage 2 of the LLC with lots of lapses and a few can sustain it for longer periods of time.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Functional Objectiv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Expressing hopes or wish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scription of activity</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How did you prepare stud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ere reminded about the doves (hanging from the ceiling) on which they wrote 2 hopes for themselves, 2 for their community and 2 for the worl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were then shown the music video for “Ojalá que llueva café” by Juan Luis Guerra and asked what they thought the meaning of the title of the song and if they picked up any other wo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hen went over unknown vocabula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scription of activity (con’t)</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How did you guide the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ill be given a worksheet for a cloze exercise.  They will listen to the song 2-3 times and check their answers with their partners.</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How did you assess the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ill write 2-3 more lines using “Ojalá que …” and draw a scene that shows the relationship between their lines and the so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Arial"/>
              </a:rPr>
              <a:t> </a:t>
            </a:r>
            <a:r>
              <a:rPr b="0" lang="en-US" sz="3600" spc="-1" strike="noStrike">
                <a:solidFill>
                  <a:srgbClr val="221304"/>
                </a:solidFill>
                <a:latin typeface="Arial"/>
              </a:rPr>
              <a:t>T</a:t>
            </a:r>
            <a:r>
              <a:rPr b="0" lang="en-US" sz="3600" spc="-1" strike="noStrike">
                <a:solidFill>
                  <a:srgbClr val="221304"/>
                </a:solidFill>
                <a:latin typeface="Arial"/>
                <a:ea typeface="Arial"/>
              </a:rPr>
              <a:t>echnology beyond the textbook</a:t>
            </a:r>
            <a:endParaRPr b="0" lang="en-US" sz="36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music video “Ojalá que llueva café” by Juan Luis Guerra from Youtube.co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9" name="juan%20luis" descr="">
            <a:hlinkClick r:id="rId1"/>
          </p:cNvPr>
          <p:cNvPicPr/>
          <p:nvPr/>
        </p:nvPicPr>
        <p:blipFill>
          <a:blip r:embed="rId2"/>
          <a:stretch/>
        </p:blipFill>
        <p:spPr>
          <a:xfrm>
            <a:off x="1905120" y="3200400"/>
            <a:ext cx="609588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20:06:03Z</dcterms:created>
  <dc:creator>eb</dc:creator>
  <dc:description/>
  <dc:language>en-US</dc:language>
  <cp:lastModifiedBy>eb</cp:lastModifiedBy>
  <dcterms:modified xsi:type="dcterms:W3CDTF">2008-05-10T17:04:50Z</dcterms:modified>
  <cp:revision>13</cp:revision>
  <dc:subject/>
  <dc:title>Listening/Speaking</dc:title>
</cp:coreProperties>
</file>